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8B6A-7B66-4E9D-B1F6-A19BE81AFD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D4C0-B19E-48A5-B299-7643DAEF23C0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1953-23C4-47DF-A3B6-44A623CD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C5D0-0884-4664-A335-745EFFC9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085B-0C01-4E75-98ED-E422CD70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E198-B8BA-46AC-8F4A-19D27F26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E5E5-B4CD-4FC2-91EB-67FAF5BC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6A10-C898-4368-8F01-EAFFB17A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F307-852F-4894-B2FE-58926A54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71D1-7464-4023-BDCC-A8DDF3A0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FDA9-95CF-463E-98A1-349F4FBA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1357-8B40-41B9-98C0-C8433BDF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0866-71AA-4A92-A773-E5F3D9C7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C492-F8CD-4268-B631-7E5986E5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62AF-4288-4835-8004-58585A39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6BDC-C1AC-4601-8F97-6A8DBB29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BB3B-1992-4153-9369-D11E4807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E249-F398-4FAD-9375-F8A11643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BFC7-BDEA-4DFC-BF7A-38EC3EEE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7A861-9411-478D-87F0-33CBFA7C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56FB88-B90D-469F-B890-2FC8B946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BCDF81-80C7-4D5D-A334-4B5C1B45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196E79-6E8D-4470-A62C-64B89C99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F096EB-8BD6-4B40-8D5B-7D79110B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8A80-F671-4E61-B43B-BDDB07D5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A8B611-E1EB-4EF7-9B37-6CA2E3F4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5BA5A9-DE61-463A-855F-F39A154C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6AAA99-3789-467D-9472-1F8BFD7D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B4A1A2-496A-47D4-BA5B-6A7BA02C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8B627A-1EF6-4DB8-B224-B6056547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EDD72E-7CD6-4298-BB38-AFD9C5A7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8EA38-C18F-493E-980E-CD0D1B86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3D2983-9AD9-4816-9556-7ED5CD2D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54C63D-1F42-408B-A4EC-C7DEFD96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1D8B39-D3A8-401A-8F55-4454980C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9817-2600-4C8C-9ACB-0F8D1C20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E66B34-14E0-4303-895A-D8989764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AC9729-8751-48DB-956A-CE85B764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4A5FEE-E0A6-46D0-A3C5-B22FF194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A25595-F57D-46F7-BB43-C7ABA375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C68DAA-05AD-4A1E-83A5-8C850319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2DEFEF-138F-4137-96A9-BE106AFC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9F913A-1A81-4EFD-AF5E-81C9327C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75E131-431D-4500-9327-15549522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45DA08-11C2-4553-9D03-39FC6732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86AC1C-58E7-4A6F-A241-7E4ABF02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703A-0F37-4CDC-9FD1-8D94FEC5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C6E00F-E6B9-44CB-95C2-3D55324C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F9843B-474C-4EF0-93BE-BC52A06C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2AC59D-AAE2-4A0E-8203-0FE0916F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0F5B35-AF86-44D5-A3A3-F4580072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EA3267-E58B-4460-B64F-A232FFEE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CF385E-ECAF-4156-8A8B-32CC330F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64AC7F-A02F-4600-ABFD-7ED3BA4D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D4DC6B-D8A2-4DA8-B87E-8DED3CEE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CFE5F8-455E-4CF2-A8D5-BB6D05EB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45E900-AA7B-46C0-8F37-D2CBBF10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5005-7927-4A24-9C8F-88B780D2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BC63DD-DA39-40DB-BB4B-D713531B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76F04-4DBD-4C5A-99C7-D5A001C1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D5218-26E5-4570-B802-3708C670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9F85A-2681-46E8-BA00-B8BBCFF6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22213-4022-43B4-9A18-1CDE313A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95FD9-8A4E-4E16-8F33-C3D1F657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5E660-7B65-4BD5-8312-3BC38CF9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F0BF6-9F62-4EE1-AAB0-2B93B53F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D58E6-E27C-4569-9AB0-8E2B72EF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AA7BE-D02F-4944-8936-08DDC997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DAFF-E748-42F5-A96D-7096FA58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62154-A9CB-42B2-A7A4-CC1FCBED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2D7B0-C9D2-4DFA-953B-19DAB139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77E0B-B90B-4814-814B-E92C9597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908523-94D0-46E0-B179-B0395E98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AAB58C-4066-4215-986B-E26648E0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F071D7-A268-4874-BAFF-D8C556DE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E56CFB-5F58-4B8D-9B2F-57493963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E05BB2-80D2-40EF-B5B5-26C7DA3D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0BC7E8-1CC3-4E4C-9B28-EE460BC1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BFD610-C1F6-4973-8A7F-B7E1107A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0FEF-0CC1-49B1-A934-0B2423FE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F4BB4E-2EAA-4B72-91A4-0155E89F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B20490-07BD-4512-92AF-A9236674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C6CA62-B4CA-4B2C-B9CE-CC99177E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360726-8573-407C-BC0C-18D70A96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D80984-3B54-4A04-8F52-8957D836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31BC6-158D-453A-AA10-A739B0C9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D0589-E645-45AB-A6EF-C6DF9D4A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F842E-98C1-496D-96A8-6A80E3C1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B9F85-1D33-418A-9C58-8FED7A02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66968-E480-4307-98E4-1097D525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E445-F797-498E-8920-1192AA08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C3C79-270C-43A3-84C9-416D71E1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10C14-23A5-499D-ADC8-1CD89B98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19A7C-F547-4BB9-9834-4BB25DF0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9C703-F2A8-4A47-B639-55311A4F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5A1DD-BD97-4196-A486-6A6CFE97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301E2-93C5-4706-AF5E-DA35EA76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C13EB-B892-4105-BE99-073EFF5F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8D08-820C-478A-81D5-E84C7B3F9299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155C-FA74-4D58-904E-37E4097B45B2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45B8-510F-4DCD-979B-E7F5212A6D7B}" type="datetime">
              <a:rPr b="0" lang="fr-FR" sz="21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556B-E2ED-4B3F-944E-A1404708EC34}" type="slidenum">
              <a:rPr b="1" lang="fr-FR" sz="16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F3AC-B4A3-427C-991D-A86950FB148F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9DA4-5F26-4E7A-94BD-6223789F7A40}" type="slidenum">
              <a:rPr b="1" lang="fr-FR" sz="2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6411-1035-487C-97BB-DF7F655F9539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3CFA-CD09-444D-B4AD-0031DC55DB1C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94D1-CAE1-44F3-BA41-12DB3C047CB3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EDD8-3484-4C7E-B798-7177EF311993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F459-AB35-4C8C-964A-F62EA553EABB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6E0F-F114-4CF8-AEC7-C3C820103B4A}" type="slidenum">
              <a:rPr b="1" lang="fr-FR" sz="16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0099-9712-4446-80BF-E9F2B1A967F5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268B-1475-4E4E-B673-69D3FD3FB308}" type="slidenum">
              <a:rPr b="1" lang="fr-FR" sz="2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680F-9920-4E27-905A-95F62B2E91AF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4131-DD8D-44B3-8EBC-8EEBF62EB2E7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Recto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Fiche%20de%20prise%20en%20charge%20Hospitali&#232;re.doc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000920" cy="900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58bb8"/>
                </a:solidFill>
                <a:latin typeface="comic"/>
              </a:rPr>
              <a:t>PRÉSENTATION MSU/LB</a:t>
            </a:r>
            <a:r>
              <a:rPr b="0" lang="fr-FR" sz="4100" spc="-1" strike="noStrike">
                <a:solidFill>
                  <a:srgbClr val="558bb8"/>
                </a:solidFill>
                <a:latin typeface="Tw Cen MT"/>
              </a:rPr>
              <a:t> </a:t>
            </a:r>
            <a:endParaRPr b="0" lang="en-US" sz="41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899640" y="1915920"/>
            <a:ext cx="7272360" cy="865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62626"/>
                </a:solidFill>
                <a:latin typeface="Tw Cen MT"/>
              </a:rPr>
              <a:t>Atelier sur l’Assurance Maladie Universelle</a:t>
            </a:r>
            <a:br>
              <a:rPr sz="800"/>
            </a:b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62626"/>
                </a:solidFill>
                <a:latin typeface="Tw Cen MT"/>
              </a:rPr>
              <a:t>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Tw Cen MT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76320" y="606888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353B-78B4-4CDF-AC52-6B14B5B6C2C1}" type="datetime">
              <a:rPr b="0" lang="fr-FR" sz="2100" spc="-1" strike="noStrike">
                <a:solidFill>
                  <a:srgbClr val="ffffff"/>
                </a:solidFill>
                <a:latin typeface="Arial"/>
                <a:ea typeface="Arial"/>
              </a:rPr>
              <a:t>28/07/26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25DE-F831-4406-B031-DFF5650131F6}" type="slidenum">
              <a:rPr b="1" lang="fr-FR" sz="1600" spc="-1" strike="noStrike">
                <a:solidFill>
                  <a:srgbClr val="ebddc3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377" name="ZoneTexte 1"/>
          <p:cNvSpPr/>
          <p:nvPr/>
        </p:nvSpPr>
        <p:spPr>
          <a:xfrm>
            <a:off x="539640" y="3933720"/>
            <a:ext cx="7993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262626"/>
                </a:solidFill>
                <a:latin typeface="Tw Cen MT"/>
              </a:rPr>
              <a:t>Expérience de la Mutuelle de Santé Urbaine Laafi Baoré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900" spc="-1" strike="noStrike">
                <a:solidFill>
                  <a:srgbClr val="262626"/>
                </a:solidFill>
                <a:latin typeface="Tw Cen MT"/>
              </a:rPr>
              <a:t>                                                                                             </a:t>
            </a:r>
            <a:r>
              <a:rPr b="1" i="1" lang="fr-FR" sz="1900" spc="-1" strike="noStrike">
                <a:solidFill>
                  <a:srgbClr val="262626"/>
                </a:solidFill>
                <a:latin typeface="Tw Cen MT"/>
              </a:rPr>
              <a:t>Par Marcel Z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262626"/>
                </a:solidFill>
                <a:latin typeface="Tw Cen MT"/>
              </a:rPr>
              <a:t>                                                                                                                                                                    </a:t>
            </a:r>
            <a:r>
              <a:rPr b="1" i="1" lang="fr-FR" sz="2000" spc="-1" strike="noStrike" u="sng">
                <a:solidFill>
                  <a:srgbClr val="262626"/>
                </a:solidFill>
                <a:uFillTx/>
                <a:latin typeface="Tw Cen MT"/>
              </a:rPr>
              <a:t>Président du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8" descr=""/>
          <p:cNvPicPr/>
          <p:nvPr/>
        </p:nvPicPr>
        <p:blipFill>
          <a:blip r:embed="rId1"/>
          <a:stretch/>
        </p:blipFill>
        <p:spPr>
          <a:xfrm>
            <a:off x="742968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696080" cy="736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II. Prestations prises en charge suite 3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4E24-92E5-4B0D-A70A-64E517E0B818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115B-958E-4C0B-93F4-1474B5348EDE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56760" y="1571400"/>
            <a:ext cx="8425080" cy="4786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Tw Cen MT"/>
              </a:rPr>
              <a:t>Dans les CMA, CMU et CHU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consultations généralistes et spécialisé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analyses de labo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soins dentaires sans prothès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soins ophtalmologiques sans lunett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opérations chirurgica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hospitalisations chirurgical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hospitalisations médical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’accouchement dystociqu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frais d’hôtellerie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8" descr=""/>
          <p:cNvPicPr/>
          <p:nvPr/>
        </p:nvPicPr>
        <p:blipFill>
          <a:blip r:embed="rId1"/>
          <a:stretch/>
        </p:blipFill>
        <p:spPr>
          <a:xfrm>
            <a:off x="7500960" y="142920"/>
            <a:ext cx="1571760" cy="107136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153280" cy="714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V. Statistiques d’évolution de la MSU/LB 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214200" y="1214280"/>
          <a:ext cx="8715600" cy="564372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452600"/>
                <a:gridCol w="1452600"/>
                <a:gridCol w="1452600"/>
                <a:gridCol w="14526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dhér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énéfici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tisation recouvr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 016 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 957 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903 7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 123 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752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ise en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990 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785 5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 421 7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 847 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027 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br de c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fréqu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3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,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6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recouv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5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9.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6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0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sinistra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93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  <p:sp>
        <p:nvSpPr>
          <p:cNvPr id="426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9036-7E2F-462C-93CC-77C847DF3172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8" descr=""/>
          <p:cNvPicPr/>
          <p:nvPr/>
        </p:nvPicPr>
        <p:blipFill>
          <a:blip r:embed="rId1"/>
          <a:stretch/>
        </p:blipFill>
        <p:spPr>
          <a:xfrm>
            <a:off x="7429680" y="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783936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V. Difficultés rencontrées et recommandation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4548-E3D5-4575-9B3B-D934B48ED869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7A58-F757-4D3E-9249-7AF5B94E1CAA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3000"/>
          </a:bodyPr>
          <a:p>
            <a:pPr marL="320400" indent="-32040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ifficulté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Surconsommation et surprescrip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 non respect de la convention par les centres de santé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Transmission tardive des factures dont accumulation de factures parfois d’un an et même plus pour certain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 manque de collaboration et le mauvais traitement de certains agents de santé vis-à-vis des mutualist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a forte demande par les bénéficiaires des produits de spécialités (ceci entraine le désintérêt de la population et la désinscription des membres)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8" descr=""/>
          <p:cNvPicPr/>
          <p:nvPr/>
        </p:nvPicPr>
        <p:blipFill>
          <a:blip r:embed="rId1"/>
          <a:stretch/>
        </p:blipFill>
        <p:spPr>
          <a:xfrm>
            <a:off x="7429680" y="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783936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V. Difficultés rencontrées et recommandation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1875-BE48-4476-96A5-2191BD0B1E7B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D7A0-4C27-45C8-89B9-A8468A0D1C21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9000"/>
          </a:bodyPr>
          <a:p>
            <a:pPr marL="306360" indent="-30636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Recommand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Mettre des médecins conseil à la disposition des mutuel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Appuyer les mutuelles dans la sensibilisation des agents de santé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Enseigner des modules sur l’assurance maladie et les mutuelles de santé des écoles de formation de santé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Travailler à la disponibilité des MEG et sensibiliser la population à leur consommation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Renforcer les capacités des responsables et gestionnaires des mutuelles de santé sur le PCMS de l’UEMOA, la loi sur la mutualité sociale du Burkina et l’AMU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0E07-136D-4B85-9BDD-AD82033DD4BF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7792-D79D-46F9-8BAD-512254BE3C68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900" spc="-1" strike="noStrike">
                <a:solidFill>
                  <a:srgbClr val="009900"/>
                </a:solidFill>
                <a:latin typeface="comic"/>
              </a:rPr>
              <a:t>Merci de votre aimable  attention!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comic"/>
              </a:rPr>
              <a:t>Laafi Baoré, S’unir aujourd'hui pour garantir demain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comic"/>
              </a:rPr>
              <a:t>Contacts: 25 36 15 25/71 80 07 97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Tw Cen MT"/>
              </a:rPr>
              <a:t>Mail: msu.laafibaore@yahoo.fr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2" name="Picture 8" descr=""/>
          <p:cNvPicPr/>
          <p:nvPr/>
        </p:nvPicPr>
        <p:blipFill>
          <a:blip r:embed="rId1"/>
          <a:stretch/>
        </p:blipFill>
        <p:spPr>
          <a:xfrm>
            <a:off x="7572240" y="21420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PLAN DE PRESENTATION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CFB2-6883-4E07-94B9-9BF7DDECCB7A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8362-3E8C-4399-B5FC-232A0DC4B415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95280" y="2133360"/>
            <a:ext cx="8424720" cy="266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Naissance de la MSU-LB 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Conditions d’adhésion et de prise en char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Prestations prises offer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Statistiques sur l’évolution de la MSU-LB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ifficultés rencontrées et recommand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2" name="Picture 8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7696080" cy="723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. NAISSANCE DE LA MSU.LB  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5636-0F65-4506-84E6-767D005703B8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E0EB-83C1-4286-B15F-637FC5C69187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57120" y="128556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9000"/>
          </a:bodyPr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Née de la volonté d’un certain nombre d’organisation de la société civile et d’entreprises (08)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Réalisée son étude de faisabilité sous la houlette du RAMS.BF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Tenue de son AGC le 30 juin 2006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Le lancement officiel 28 février 2007 au CMA du 30 sous la présidence du MTSS et le parrainage du Maire de la Commune de Ouagadougou de l’époqu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ébut des prestations en 1</a:t>
            </a:r>
            <a:r>
              <a:rPr b="0" lang="fr-FR" sz="2900" spc="-1" strike="noStrike" baseline="30000">
                <a:solidFill>
                  <a:srgbClr val="000000"/>
                </a:solidFill>
                <a:latin typeface="Tw Cen MT"/>
              </a:rPr>
              <a:t>er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 avril 200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7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85880" y="428760"/>
            <a:ext cx="7696080" cy="72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. NAISSANCE DE LA MSU.LB (suite)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06C0-EDB9-4924-8F1D-CEDC6EAD9E4E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7195-58ED-48C3-B9DD-7D5DCEA28AE3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57120" y="1714680"/>
            <a:ext cx="8175600" cy="4665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4000"/>
          </a:bodyPr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 public cible de départ était constitué des membres des organisations mères de la mutuell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Chaque organisation a constitué une section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Au sein de chaque section il y a un bureau de la MSU-LB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Ce bureau est chargé de l’animation, l’enregistrement de nouveaux adhérents, de collecte des cotisations et de la gestion de la section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Une section (inter pro) s’est créée qui regroupe des personnes n’appartenant à aucune de ces organisation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Toutes les adhésions et cotisations sont reversées à l’unité gestio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2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7696440" cy="107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88B8-4F90-4B89-B2E9-BF10D8181ACC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07EE-A4C8-4827-BA51-778DC436D28E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8000" y="1988640"/>
            <a:ext cx="8351640" cy="431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3000"/>
          </a:bodyPr>
          <a:p>
            <a:pPr marL="320400" indent="-32040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Tw Cen MT"/>
              </a:rPr>
              <a:t>Conditions d’adhésion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aiement de frais d’adhésion de 2 500 frs pour une famille de 5 personnes (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adhérent + conjoint + enfants à charge de moins de 18 ans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Versement de cotisation de 12 000 frs par personne et par an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Verser au moins 6 mois de cotisation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pporter une copie simple d’extrait de naissance ou CNIB ou passeport et une photo de chaque inscrit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8" descr=""/>
          <p:cNvPicPr/>
          <p:nvPr/>
        </p:nvPicPr>
        <p:blipFill>
          <a:blip r:embed="rId1"/>
          <a:stretch/>
        </p:blipFill>
        <p:spPr>
          <a:xfrm>
            <a:off x="7572240" y="142920"/>
            <a:ext cx="13575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8" descr=""/>
          <p:cNvPicPr/>
          <p:nvPr/>
        </p:nvPicPr>
        <p:blipFill>
          <a:blip r:embed="rId1"/>
          <a:stretch/>
        </p:blipFill>
        <p:spPr>
          <a:xfrm>
            <a:off x="7429680" y="21420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760" y="404280"/>
            <a:ext cx="8029440" cy="86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suite1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DD96-99EA-438A-8168-4FA48D7A1246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8D53-C189-4ABD-9765-86982366A6D8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95280" y="1628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Tw Cen MT"/>
              </a:rPr>
              <a:t>Conditions de prise en charge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Observer une période de stage de 03 mo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Se rendre dans une des 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26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 formations sanitaires conventionnées (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10 CSPS, 6 CM, 3 CMU, 5 CMA, l’OST et le CHU-YO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ccepter la prise en charge de 70%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résenter sa </a:t>
            </a:r>
            <a:r>
              <a:rPr b="0" lang="fr-FR" sz="27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carte 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de memb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ayer un ticket modérateur de 30%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8" descr=""/>
          <p:cNvPicPr/>
          <p:nvPr/>
        </p:nvPicPr>
        <p:blipFill>
          <a:blip r:embed="rId1"/>
          <a:stretch/>
        </p:blipFill>
        <p:spPr>
          <a:xfrm>
            <a:off x="7572240" y="142920"/>
            <a:ext cx="1571760" cy="10713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774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</a:t>
            </a:r>
            <a:br>
              <a:rPr sz="2800"/>
            </a:b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suite2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F237-A75E-4217-A267-5DC68A8A33E4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4131-E679-4ECD-A866-5BFEF8ED7D64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56760" y="1785600"/>
            <a:ext cx="8286840" cy="4403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lvl="1" marL="340920" indent="-340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Tw Cen MT"/>
              </a:rPr>
              <a:t>Circuit de prise en charge 1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résenter votre carte de membre au guichet de la formation sanitaire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a prise en charge au CHU-YO est faite sur présentation d’une </a:t>
            </a:r>
            <a:r>
              <a:rPr b="0" lang="fr-FR" sz="25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fiche de PEC </a:t>
            </a: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délivrée par l’UG,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ayer les 30% de vos frais médicaux: consultation, examen, hospitalisation…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En cas d’ordonnance présentez votre carte au dépôt pharmaceutique de la formation sanitaire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ayer les 30% des frais d’ordonnances (MEG)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0920" indent="-340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suite3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B170-4D08-48F0-965B-F4B4955EC86D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7522-52D6-4F53-B791-F0CCB0D3BEDC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28760" y="1904760"/>
            <a:ext cx="8501040" cy="4476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7000"/>
          </a:bodyPr>
          <a:p>
            <a:pPr lvl="1" marL="334080" indent="-33408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w Cen MT"/>
              </a:rPr>
              <a:t>Circuit de prise en charge 2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En cas de rupture de médicaments au dépôt,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chetez vos médicaments dans une pharmacie de la place à la totalité du montan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dressez une demande de remboursement au PCA de la MSU/LB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54360" indent="-238320">
              <a:spcBef>
                <a:spcPts val="53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9900"/>
                </a:solidFill>
                <a:latin typeface="Tw Cen MT"/>
              </a:rPr>
              <a:t>Pièces jointes (reçu d’achat, ordonnances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54360" indent="-238320">
              <a:spcBef>
                <a:spcPts val="53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9900"/>
                </a:solidFill>
                <a:latin typeface="Tw Cen MT"/>
              </a:rPr>
              <a:t>Même procédure si vous n’a pas été traité en que mutualiste (en cas d’oubli de votre carte par exemple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6200" indent="-286200">
              <a:spcBef>
                <a:spcPts val="624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696080" cy="934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II. Prestations prises en charge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D589-0CBF-4890-90B4-D578ABD2AEF2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010F-878C-4419-8649-9750A029E00F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9528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1"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Tw Cen MT"/>
              </a:rPr>
              <a:t>Dans les CSPS, CM (Les soins ambulatoires)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s soins ambulatoires : consultation curative, soins infirmiers, petite chirurgie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s Médicaments essentiels génériques (M.E.G.) de la liste nationale des médicaments essentiels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’accouchement normal 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a mise en observation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’évacuation vers le centre de référence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1:03:26Z</dcterms:created>
  <dc:creator>NOMBRE B.</dc:creator>
  <dc:description/>
  <dc:language>en-US</dc:language>
  <cp:lastModifiedBy>Poste 12</cp:lastModifiedBy>
  <dcterms:modified xsi:type="dcterms:W3CDTF">2015-06-09T08:42:55Z</dcterms:modified>
  <cp:revision>117</cp:revision>
  <dc:subject/>
  <dc:title>Présentation MSU/LB</dc:title>
</cp:coreProperties>
</file>